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108-A7FD-4221-ACA8-C7BF535C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67B-2496-43B3-8D5C-E5785619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7F52E-C05E-46A4-B71E-85A226B3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67724-55C6-465E-968B-4DACDD01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D8118-0F3D-4879-B159-C2DBC0B9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9CDB1-8169-4AFF-9AD4-611ADB2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01561-809F-4E47-8854-F15CD8A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C3EBD-CCFE-4CDC-AA90-DEC21438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94C48-E143-45A3-815B-91613857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4CDCA-1B41-468B-9D5E-51BCE086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F9304-C3EA-4C31-9D5D-CE1C58EB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C371C-778F-434F-9D68-6D4225C2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E83-9D75-4DE7-896F-251929DC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E6D3D-9FD5-499E-AAB2-EC3DAF11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FC219-8BF6-4D9C-906E-6B94B1B5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7278E-1D49-4B2B-B65D-5E4554CC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145E3-0C54-4002-B6D7-D0D9315E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A9F0E-AB56-4B83-AFEE-CDECD8E6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2F42D-54A1-43F3-A058-15F51FD8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3BC11-391A-440C-8818-AE8FD184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F5936-1CF1-49E7-9F2D-08A09B51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60DA9-755A-4698-A010-0870C1EE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C5F1D-F707-4F8D-BE94-9D4DC610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FAC-20FA-4408-8C26-11378268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78555-9DB0-497C-88A8-123285F2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F5C66-4147-4C90-8B76-79098E19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D4BEF-F882-4E73-B6A6-870AAA40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03852-4278-485C-9388-42334C6A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E5558-A6AE-4401-820E-FD479F8F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1DFA5-F278-4E58-B5DD-18B3077A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D2706-B0CF-42B6-87B1-833573AD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B663B-B9FB-4A35-9A92-C10F6667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C2764-928D-44DC-AD03-A76F6264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98E69-5951-44A8-8F36-6F38AED9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E1BD-5A84-4F20-A10B-64D5DD04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A11A9-5FAC-4C67-8693-240BC21A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B1DA6-B42E-479D-A73C-1A9A41EC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D96A4-8E13-4726-AF36-6CC84BCC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5A18D-6EC3-44FF-B748-D6C6F136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CE662-0774-4DA5-AF10-2DD12E63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86202-CA02-489C-9370-0B87D101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EFBCA-6A5B-49D7-89DB-A387DBC4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49F6F-4D63-4DB5-BC95-6803D718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12FEC-C335-45D6-BB66-2C36BFE0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9534D-4BDA-4EE7-BEC6-4C220DB6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81D1-A5FD-48B8-B9FB-D02483F4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8BF35-E57C-448D-8B86-6161A6F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1687A-993F-48CE-AE14-530EBF2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AA7F7-5CF8-42E6-8E8E-5812116D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39447-DA11-4B9A-87D2-E6FBA275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FEAE0-9682-4C69-A744-DFA2BBC5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E6298-BD8E-4278-889F-69DEB595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C3AAB-E9F5-47B5-8F74-B79DEF4F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71847-5420-47DD-80F7-F76EE82D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87A9C-AD4C-4484-B32E-F306E0EA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289A7-08AE-4D52-BE23-4EB2A510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9D2E-1D39-4FCF-88F3-EA794635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DEF1E-6C3D-4C4D-B67D-E2D90FD7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1206B-A6BA-45B6-B059-9C38E6E1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6535A-4B5B-49C6-8A0A-83CD235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35197-99C0-474B-AE8E-83AAE27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973D0-0632-4AA0-B0AF-5EB1D9CE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1B444-3061-4396-BC8D-87C2A0E6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8BAFC-CD44-4DDF-99BC-72243DC1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F2CE2-E769-4C05-99A6-2C1DDE9D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77C24-E719-463F-A342-75E0C861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E487F-E630-4AEF-8775-6E8BF685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4263-71BD-4FC5-9034-43B46BCF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8E3A5-4458-4F9C-9F88-83ED037B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5EE64-A19F-4852-8258-3089A053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16DDA-6627-48C2-AA7D-4809BC19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478DD-BBE7-4769-9C66-0B8189D9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B4263-9D0F-41AE-B43A-11196A34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C2811-DCBA-4FA4-A932-7B509580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E6080-542D-4797-84EC-C361938F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54B5A-56D3-48CC-822F-9F8C48F9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07C3E-CC0B-46B3-BD1D-682D9717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04C03-6596-4CDF-9324-8465C849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1A71-54EB-4122-ACCD-E03665EE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F0101-4E64-4BC1-BC0D-F86339F3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89954-8105-4095-85A2-40D13A4E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E4FA4-64D5-4A79-97CB-3FE059F8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49975-B5DE-4C0C-8D55-727EDFE8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42937-4FA4-482B-BA63-124C5E7F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150C6-42D6-4E0C-93E2-40CC4C9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FEDDA-2CD6-4D3D-AD9B-A0B96311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D918D-3E02-41D7-9CB0-4ABD1D5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50C5D-C21C-45BC-AADE-C62E0882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3841B-E64B-4F26-A39D-FD0D0BA6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19A3-76FF-452F-9C52-4FB2C7FC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CA0D20-98DF-490F-9263-9850AC59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B375C-5E66-4CDE-86F7-F8BFE75C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D9F2E-AA7C-49BF-9001-A5A3503E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D3751-C44F-47D9-8E3F-3B94BA77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1B373A-FF31-4DF7-B148-0AB91FCB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D499C-344E-4B0F-9F90-F58FE933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6183B-B4D3-4F95-A4D0-C2E54FA9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AB951B-5CB4-4E0C-9FAA-5EB360A0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DC7016-86D7-4C4A-924C-EE8A3FE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03F2E-7903-4A89-986C-AC30288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F07A-73D2-49C1-B451-190FE94F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351A0-971C-49FC-A4A4-6737DD24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E588E-E277-44C2-BD3A-46469B08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AF792-965A-40EF-820A-5DDD5FB1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3DD8A-7981-40FA-A90D-C2BB85AD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B9EAF-D15D-48BB-A06E-B6F9707F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A2375-AD83-4156-AC18-BF7FC09E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68299-49EB-45C7-ABAF-C418BD0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606D5-106C-4DC0-84FF-DEF8261A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3B880-E57A-4171-A47B-FB617057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F54C80-110A-4C42-B728-FF62708A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8A0-562B-40FA-B422-4EC269C6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0F40-2B8B-4CD4-A053-82776C5D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0128E-ABCC-4E58-A5CE-D7B8326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14D9D-55D6-4594-8C2D-C5E558C4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44D48-E759-4F88-AA46-8B354406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5844A-38B4-4F68-AF96-5E1F630E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392DD-DD23-441A-997C-FE0285C8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8BE83-9796-4CF8-94B8-4D90EFFD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74FA8-9C00-4B41-9430-304E619E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38B2B-3808-494A-9EA0-0A0BD13E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E3186-5FA4-48FC-A89C-3E8FC803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A0FCF-373D-486B-89E8-E105E112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5C62-B545-4879-9204-B3CEA65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0BD52-8A4E-4680-8EEA-0F9367FF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6ADF0A-26A1-475D-B1DD-ED651426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5BFAB-539E-43DE-8B81-96E1DD3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BFC23-A8DE-48F2-97B6-97CEA5A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1AE65-551C-45B1-858E-036D92B8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35D11-045E-49AD-897A-66F8DEFD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576D9-FBE5-4EE1-A7C0-0BA0BFAA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F90D0E-1ADD-484A-B12F-2EE6A84F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C824ED-3355-4BE2-B67E-F8F25C1B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335E1B-695C-414B-86AF-07A797BB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509D-AE67-4B20-AD94-540FD9E8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95AD1-0EE6-4009-AB0C-40BC5FFF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0D435C-7E17-41D6-AE6F-4C853CB9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B8C114-A994-40CB-AC14-F1C25AF2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A70011-B356-42CC-878A-B4B3738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31607-6119-41F4-BB2A-6499CF11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2BCE5-541C-4EC7-BCB5-B675AACD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B00E2-0B64-4BB9-BE47-D00D9CE1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988E1-D947-4F05-94B9-1DE271D2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9EB13-F669-457B-B7B9-60D12D11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55C6C-F7EC-4EE2-A06C-92D003D9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7FC2-F3FF-457E-8A6E-BE1F16EB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54F0F-EBF1-4566-94E3-D5518A8D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80EF3-E68A-4DE7-83E2-C4C39BA2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B726D-E80C-491F-B053-E2C8960F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079AC-9224-4BE8-A67E-50E00A87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0ACF5-56A6-45F7-BA25-DD3384C2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68F522-3FF2-4152-BE0E-7560ACD0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946FD6-E39F-4F37-B2DE-2B96A8FA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085611-3227-4020-8EB6-1FF63DD5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BAE153-EE2F-4C75-9B3F-B1944318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A7812-7241-4CD4-8BFA-7B5CE66D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DEA0-02A0-4755-BDBE-2F9A3934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5B1FB-D447-46FB-86B3-6688C34E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4BDB3-644E-444B-8EFA-28E0F24C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9C804A-7BF1-45B4-9049-E4063AEC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F2591-9635-43BF-90E9-62C0FD23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47F7B-F3B4-4125-AA3D-D152C819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3B3CF-6A1E-4A21-AC90-DB9EF3AC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7A09C3-80A2-48BD-9AA3-15B52C0F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3AB99-0EF2-44AB-BE78-CFDA0779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F95D3-5A23-4DFA-8B7E-1B830B9E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8BEC1-FE92-483C-87FF-3262BA79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03E9-BE97-4CCB-8D0E-3B41C9DD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91A64-BC56-4F5D-8991-2A9BAD08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CEE15-5697-439A-9FC1-E34A4EBA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A07C7-EB38-4303-B7ED-C1A62E23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3CA00-555D-4977-9E41-5CA49A1F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A4B2D8-E6DA-4396-A6E2-D1E56216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26D7A7-2224-4221-8BAE-9D60E118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CBD71B-224B-4133-B1AE-C66859CF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2A204B-6E2E-4A76-ABE2-FEFD92B1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B387FB-A12F-4D58-B24E-59640846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F0959F-81C3-4B59-9217-D9867CA5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67BB-CAC4-4DB2-81AA-EC0541DD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C5947D-3D9B-4A02-AA76-664F014A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252426-8FD2-4956-A3C4-07C52E3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CA61CC-DE43-4924-A987-7E423DF0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10055-E371-4B4E-A64C-25235E4B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060C6A-BE62-47B0-8F0B-BF06B6D1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D5CE03-BC00-4112-8865-3D7B538F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273760-3748-4C53-9BE3-7C634C47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164BC0-E6CC-4F31-B1D7-89568077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7F8E68-149A-4399-836E-8D014FD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4A81B0-6658-4528-8336-95F36560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A074-D9C5-4A1E-9BB0-C7531E2A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871539-9C75-46BA-A843-55286893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2B1714-F271-40E6-A2B3-9E10464E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D41F3B-57A0-4B44-870A-62607DE5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9616E1-805D-45DE-BA48-383A3D49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4561AF-E051-40F7-85C2-98B1A1D5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4AD5E9-69E7-440B-B7FD-605A161C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562838-93C5-4810-BC40-0721BFBA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C070B5-FC68-48A3-939E-9803BB44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D56439-78E5-49C7-B7C0-AFE89384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61EB3F-0F17-4297-A8D3-4A691B8B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69CB9-8B87-4858-BE62-940F417A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AAB382-5955-418D-AF4C-E70D6F92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9B6F69-AE86-46E3-82D1-9FE1531E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6A8E45-9DF5-42F6-83CA-8B3CBE97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4B01DE-F9A1-476E-A7A3-F3C49C1D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8870E7-2B7D-44E5-B1BC-A53E11FA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20AC29-8FAB-4BD0-8649-D75CF2B0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ADF154-DD1D-4A74-9C37-BCB196E6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146186-B003-4BA3-9763-C4BABBF6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730882-AFE1-40CF-A2F3-A8FE2D86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9F8CC7-CFF5-44F4-9F47-9776CE99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A870-633C-455C-A3FC-12DAD4F3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5EADDD-0288-4DB1-B36E-397AB6EA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44D81D-3734-4A27-AC5F-4F706E70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BC9A1C-8E12-4CDA-B6A9-FBA0B21A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2C5E7C-FBF8-46F8-A925-6B811449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7C8990-FC99-443E-9EF9-6335D44D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A7B70-8004-4C45-B027-F1DA9C4E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119E3C-493B-4C88-9D9C-4F565460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223B25-330F-4874-9811-3BC5A77C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F769D9-4174-40B8-A1BD-81A6A978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7BDFFE-6BAD-4A81-9B94-B452492F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63F-84F3-4BD7-8528-857A79FD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563A8-503F-43F8-8227-2BA70F6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5A5A1F-E975-4217-93C1-CE25B963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FBF08D-85DE-429D-8142-C0F05117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382863-2B98-44F6-8CEB-F9742F2E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C4C99D-AF07-4BBE-9AB0-753FC530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616161-B2E5-4F27-A088-8E47293E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1DCD8E-9FC4-4484-A7DB-4768FC3B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19155F-2BB8-4DCB-A935-62799AC4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2FD419-6B75-4BFC-BA0C-E8B5BEE6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04F8F6-426A-4F7D-9945-90B1DB9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CDD4B5-F07E-4DDB-922E-00A884DA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DD88-5B65-4CCA-96AD-2AD4182B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0CA06E-2A93-4849-9C4A-5B27AF9F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C0EE58-7953-41FB-AA3D-20A6F69D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C7CFAC-935A-4280-96DB-2074EE55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FAC964-BB52-46F2-93D7-4923650A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2B270B-88C2-411C-8F1E-41729DFC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753F59-B498-42DF-B851-BCA6C1BC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3AF684-BA49-46DC-8E46-DCB06F6C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CAF372-8483-40BA-8C23-FC30D5B1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566E68-F305-4EFA-8428-79FFB7AF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AF9849-2AC7-4FB5-9F22-81B16875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77AA8-B1C8-487F-BFE4-71290C33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8644D6-6D97-41B5-9838-1A043D67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385A0D-5D1F-419A-9FEF-ABD5CA5D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A4A75E-585C-459E-AF91-D3833E46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979FD4-A389-4011-B40E-C8231EE5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92B738-E820-4338-A8EC-01E5B4CE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FF0B3B-B3FA-4E2C-BB67-91B02C37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17DC30-16BD-4BB3-8E70-5D5F9496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84085F-1BF8-4C0B-94B2-24D3A57D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AC2B8A-1565-4274-9EB9-A1F6BF37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C4D665-19F5-4A17-BE30-AA21535F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7656-8D4D-4186-892E-22F0A48F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1DE701-F6B1-43F0-A5FF-027691C5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E722ED-9762-49AF-B7B1-9C4C5149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256980-99C3-42EA-9605-814F6F6F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CA6692-7371-4A98-BCFE-EA968C80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01ADDF-FC17-41E7-9322-41CBF876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717F64-86CA-4A9D-B25C-B4FEA392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1C34AD-FCCE-4D00-B18C-6FA5B337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BAAEBA-B248-4330-95A1-2C1F1D42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9ADF68-67EF-436A-850C-C6304138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755EE3-5843-4685-A6B2-2B0645AB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5D53-D09A-4694-B366-B37E06D1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A2E26B-3BDA-4BE6-851C-28E7F1A4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B4B83D-99E6-4EB8-BCAE-532E4B82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2D722D-B61D-4430-BB68-3613D8E9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7DD72D-CCF3-4D49-A807-AC5DB2B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6B65A0-73EC-40C3-BB66-4315C26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11CC2E-ED87-4933-969A-FBAB3FC1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D1D87C-6123-44CC-8B6A-1D4AB813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6F4A32-1D38-43DB-8178-D157D350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71926E-D735-4772-B1B4-6C17B67B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5E9258-D5C3-4E9D-8C7A-B31919AA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FF195-1AB6-40F5-B42B-8E0BCF59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1B8B09-142A-4A00-8F52-8EFA4F62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EC08AA-9CF5-4392-8911-C7893BD5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37E994-59D1-4597-A686-781353BB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C1C10E-072B-4E33-BCC6-3E83441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06A69E-298E-4E18-AA7E-DE09B5A0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CF95EB-869C-4D86-A00B-F2DE2E53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E6F848-0558-4780-89A3-ACA86EC9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E5407D-4883-49B5-8C3D-5DDE978A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320F5F-D1E7-4ED4-BA36-4672EBB2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76BCF4-500C-423A-AA99-9D4C46E0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4CA1-AF51-4926-A991-33E6D0BB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416F18-3B0C-46F3-9244-AB9FDA51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A43FCE-1D22-47C7-9F68-92E3BF99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921F57-322E-4764-9A9E-5837DBF4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937940-DC8C-4783-B6C2-BDA79BB2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98D8D0-947C-42A9-8AD9-027D85E5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D0A923-BB78-4EE4-8000-B5D19CB0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8E8AD6-0B4C-4E68-B8E2-B833CECF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3A20EE-A63B-4A1F-A9C7-F66BA60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B9997C-C683-40DF-80BB-45CE9E6B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85D6E0-89AA-42DD-A297-22519ED5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8AAD3-1884-4644-871C-E89527F8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B62768-7CB8-464A-9F6C-19DEAAB3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AB55FE-9880-47FB-A3D1-3BA22F97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CC4F18-B6DF-4EB0-BF74-C29B0645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30382-3A57-44B9-8202-87541B22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6F673-5017-4AC0-9139-4C7177B2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403-D58E-4C84-8C77-64582686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26C7-1B71-494F-A0B1-C5CC297E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89A56-F117-4BF4-8AD4-B474B8DC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BBBC-6549-45C7-A0AD-CFE9897D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A73D4-866E-4648-BBB1-F35E2076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1355-E0B4-4056-8A86-C2819051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431C-33FC-4A65-B7AC-8885F7C0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AC53-B9DC-450F-8BF9-B90F4D3A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DFC61-DA4A-44B1-B7D8-98EF33A0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6608-849C-4F2C-8B73-289712EE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FAB5E-3399-498D-AB56-F6420625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3D9-45DC-442B-B740-DA9B3578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EF7BD-37D2-426E-BDDD-1AFE7F69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594DE-E066-4A3A-B252-088A781D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AE09-8978-4CA2-A73F-5FF7DBA8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AD8F9-8CBD-4FA6-837C-B3A88CAF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45292-CE80-46D8-9753-D94A2D91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ED06-AF85-4435-BE3B-54ECBF4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2B59-6092-45A3-BA97-7CF069FA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24FAF-2807-4A4B-9057-5B2EF68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93A46-EA42-4879-854D-1F94756F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26EF9-96B5-4B37-B549-F2B3D632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DFD-F894-4A2E-BF86-FB859FA7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1512-6D5E-44A1-BE81-78949432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49477-4BEE-4EAA-B5EC-87C9D22A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A1B8-ABF2-469C-B89E-8D92A282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ADD7F-A839-46AB-BF04-D6B4D56D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D9763-359D-4615-86C5-BDE527F7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3C21-813D-4510-964D-E4CA1666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9EB9F-5053-4041-9B97-7DF339FF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01EB2-1701-4FA1-B7FC-5DE1B950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3F8CC-2C6F-4A45-B0E2-60B5C9E9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4F10-4F3D-4FAB-A9BF-5F73C487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357-A022-452E-B52C-AE0102C2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8749D-19B2-4593-80E4-C934D4F6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2921C-FF49-4EF2-806A-7B03B6A8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69C5-54A5-4C54-9103-6EFA280B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950FA-1325-45CE-ADFB-2C3291BC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961FB-8FAB-4BA6-BF4B-55A59B00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43E6D-5B9F-4533-BE1D-68C163B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CAF42-5E4E-4263-BFBC-1F145234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CF7E8-74C8-4979-BC6A-4A2B6586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94F75-0B6F-4DA3-8562-631CB058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7E1BB-35DF-4501-976D-5C066F26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FEA-116D-4B31-A2CB-95D01827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1C296-B632-4B4C-9F89-F6012F5A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21145-0057-4289-8F20-6C40635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CD068-6252-4C8D-9CA9-515DF69C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C68FC-E988-4748-8032-32F408D0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E6BB-A34F-4F83-9D2C-6D282B05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3A09F-B3C0-41AC-A2EA-EE94903B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BBE1D-4805-4375-B9EB-118D7608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EEE5D-88F7-4F4A-8F02-3901EA83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4A1FD-C7DE-4012-A6F7-26C6A1FA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18190-64C1-42F0-A8D5-A65B16C6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F27-78C8-4574-942F-ED773B30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43D2B-AFA9-4949-8195-60C53BE0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2A5A5-1711-451F-A865-F3AEEFDE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273AE-3119-48A3-A6C0-9AA5F885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E68D5-1818-4AC3-AF22-31015CE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2DE06-43FB-4CDB-BFA1-941BD17E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76680-A3D0-4AFE-8AE0-50C13447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F4B02-2AF1-47A2-88EC-67B53DEA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DEC1B-9797-4564-91F3-A0F753BA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A11D0-C89F-49FB-B16C-2444C60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BB58D-0D20-4FB5-B4C1-CD9E2FAF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1CD5-1913-4BA4-802F-3FF73DBADC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EAAD-7F90-4690-8538-064383A3AF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02A8-763F-4519-80C9-2F27AA4DF5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F00C-A982-4F58-95AC-B33D9FF369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D903-F64A-40C2-8AB8-7B54CE8C7A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0CC3-E1D0-41F3-A2F1-88733B2032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5503-FD85-47BB-AB06-6A13FF8D04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6901-77E3-4085-855E-66ED9EB703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3311-30FD-430F-B91E-BCEC5AE082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891B-1619-4413-BFCA-8097668028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CD84-ED0E-4225-B96D-02E1298F93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03B2-595D-47AB-8AA2-4342C99005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E3AC-5151-4F2B-B96F-0C1D17695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3B48-B727-4FF0-993B-2BC3B08BC4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CF5C-BF3D-4A59-B4B8-41DB4475EE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14CE-72F2-408E-BCA5-F7BAA4546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386A-2F06-415F-9333-F6992D5E78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96D2-34BB-42D2-A8C9-E07FEFBC26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D3AB-9936-45BF-8CA0-66D322D681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32D6-5965-45D4-BF93-611FC10503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F778-E239-464E-B7C8-966DDF09F5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0AD6-D787-4170-88DC-28711314A9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5C61-CFAF-4587-AFCF-362BBBEDFC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E64E-975D-4ED1-A890-B81EB2ED11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B06E-A788-4099-B62F-150986A74F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45F-2672-483D-AD0B-5F7E60E379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F2D9-AAFC-405F-88AC-E65909A51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B31D-416C-439E-8F79-3E706CDCD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A4EC-D3BB-472D-BBBE-739CC8ACAC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47FF-F235-409E-8874-401B6BF6B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A030-E43B-423D-8FF8-D468DF5CDA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C2FB-9DDC-4F94-B8B8-76BAB5F86B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CCC4-D678-4182-BCAE-B2560A26BC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6179-7AAB-432F-AA0D-B3006EDF7A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D5B1-3D4E-4F75-BE98-B97EEDD815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D488-5661-4F81-8F69-93FE4D2211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D89F-9F21-46A2-8155-CF44BD3EE4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FE96-A658-435F-9C50-C7B7FE763D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F06B-ECB7-42B4-8C8E-8E85AA6100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9378-1DEE-47BB-8E40-1E5EA86BAB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0416-5FDE-4DC8-9290-B9C9622294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14D8-DDB3-4144-86D5-307DAF8C74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E5C7-C33C-4F05-ABE9-D6E7AA114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96DF-8946-4BD2-9CE7-A2B00D3D6A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864D-9CDD-43B2-B630-1912094A98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FCB5-989C-4A27-8AAF-E611D08557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4215-8479-40D5-8646-CB63D8C671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7DFD-F7DE-493D-A4C0-B3A65F6DFE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AE24-31D7-4E2F-B3A0-A99D20B6B0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2F56-B9CF-4ABC-A889-6A49111C5F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492360" y="1844640"/>
            <a:ext cx="2000520" cy="68580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5572080" cy="64764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2484360" y="3573360"/>
            <a:ext cx="41054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6738" descr=""/>
          <p:cNvPicPr/>
          <p:nvPr/>
        </p:nvPicPr>
        <p:blipFill>
          <a:blip r:embed="rId1"/>
          <a:stretch/>
        </p:blipFill>
        <p:spPr>
          <a:xfrm>
            <a:off x="538200" y="1447920"/>
            <a:ext cx="8067600" cy="396216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6739"/>
          <p:cNvSpPr/>
          <p:nvPr/>
        </p:nvSpPr>
        <p:spPr>
          <a:xfrm>
            <a:off x="5853240" y="4062240"/>
            <a:ext cx="56808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5713" descr=""/>
          <p:cNvPicPr/>
          <p:nvPr/>
        </p:nvPicPr>
        <p:blipFill>
          <a:blip r:embed="rId1"/>
          <a:stretch/>
        </p:blipFill>
        <p:spPr>
          <a:xfrm>
            <a:off x="757080" y="2023920"/>
            <a:ext cx="76298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3564000" y="2421000"/>
            <a:ext cx="1933560" cy="552240"/>
          </a:xfrm>
          <a:prstGeom prst="rect">
            <a:avLst/>
          </a:prstGeom>
          <a:ln w="0">
            <a:noFill/>
          </a:ln>
        </p:spPr>
      </p:pic>
      <p:pic>
        <p:nvPicPr>
          <p:cNvPr id="1436" name="图片 124930" descr=""/>
          <p:cNvPicPr/>
          <p:nvPr/>
        </p:nvPicPr>
        <p:blipFill>
          <a:blip r:embed="rId2"/>
          <a:stretch/>
        </p:blipFill>
        <p:spPr>
          <a:xfrm>
            <a:off x="2209680" y="3147840"/>
            <a:ext cx="472464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3905" descr=""/>
          <p:cNvPicPr/>
          <p:nvPr/>
        </p:nvPicPr>
        <p:blipFill>
          <a:blip r:embed="rId1"/>
          <a:stretch/>
        </p:blipFill>
        <p:spPr>
          <a:xfrm>
            <a:off x="581040" y="1228680"/>
            <a:ext cx="7981920" cy="44006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3906"/>
          <p:cNvSpPr/>
          <p:nvPr/>
        </p:nvSpPr>
        <p:spPr>
          <a:xfrm>
            <a:off x="3924360" y="2708280"/>
            <a:ext cx="7333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3907"/>
          <p:cNvSpPr/>
          <p:nvPr/>
        </p:nvSpPr>
        <p:spPr>
          <a:xfrm>
            <a:off x="3000240" y="4184640"/>
            <a:ext cx="200340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3908"/>
          <p:cNvSpPr/>
          <p:nvPr/>
        </p:nvSpPr>
        <p:spPr>
          <a:xfrm>
            <a:off x="6905520" y="4184640"/>
            <a:ext cx="169884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9"/>
          <p:cNvSpPr/>
          <p:nvPr/>
        </p:nvSpPr>
        <p:spPr>
          <a:xfrm>
            <a:off x="1428840" y="4670280"/>
            <a:ext cx="7333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10"/>
          <p:cNvSpPr/>
          <p:nvPr/>
        </p:nvSpPr>
        <p:spPr>
          <a:xfrm>
            <a:off x="4562640" y="4689360"/>
            <a:ext cx="202536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1"/>
          <p:cNvSpPr/>
          <p:nvPr/>
        </p:nvSpPr>
        <p:spPr>
          <a:xfrm>
            <a:off x="2133720" y="5165640"/>
            <a:ext cx="202536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590400" y="1062000"/>
            <a:ext cx="7963200" cy="473400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2883"/>
          <p:cNvSpPr/>
          <p:nvPr/>
        </p:nvSpPr>
        <p:spPr>
          <a:xfrm>
            <a:off x="4500720" y="1700280"/>
            <a:ext cx="7333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2884"/>
          <p:cNvSpPr/>
          <p:nvPr/>
        </p:nvSpPr>
        <p:spPr>
          <a:xfrm>
            <a:off x="6343560" y="1746360"/>
            <a:ext cx="7336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2885"/>
          <p:cNvSpPr/>
          <p:nvPr/>
        </p:nvSpPr>
        <p:spPr>
          <a:xfrm>
            <a:off x="2419200" y="2203560"/>
            <a:ext cx="7336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2886"/>
          <p:cNvSpPr/>
          <p:nvPr/>
        </p:nvSpPr>
        <p:spPr>
          <a:xfrm>
            <a:off x="5095800" y="2232000"/>
            <a:ext cx="73368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2887"/>
          <p:cNvSpPr/>
          <p:nvPr/>
        </p:nvSpPr>
        <p:spPr>
          <a:xfrm>
            <a:off x="6219720" y="2212920"/>
            <a:ext cx="73368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2888"/>
          <p:cNvSpPr/>
          <p:nvPr/>
        </p:nvSpPr>
        <p:spPr>
          <a:xfrm>
            <a:off x="4629240" y="2975040"/>
            <a:ext cx="7333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2889"/>
          <p:cNvSpPr/>
          <p:nvPr/>
        </p:nvSpPr>
        <p:spPr>
          <a:xfrm>
            <a:off x="6305400" y="2984400"/>
            <a:ext cx="16513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2890"/>
          <p:cNvSpPr/>
          <p:nvPr/>
        </p:nvSpPr>
        <p:spPr>
          <a:xfrm>
            <a:off x="3591000" y="3460680"/>
            <a:ext cx="7333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2891"/>
          <p:cNvSpPr/>
          <p:nvPr/>
        </p:nvSpPr>
        <p:spPr>
          <a:xfrm>
            <a:off x="6381720" y="3470400"/>
            <a:ext cx="92700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2892"/>
          <p:cNvSpPr/>
          <p:nvPr/>
        </p:nvSpPr>
        <p:spPr>
          <a:xfrm>
            <a:off x="7734240" y="3460680"/>
            <a:ext cx="7333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2893"/>
          <p:cNvSpPr/>
          <p:nvPr/>
        </p:nvSpPr>
        <p:spPr>
          <a:xfrm>
            <a:off x="2333520" y="3936960"/>
            <a:ext cx="73368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2894"/>
          <p:cNvSpPr/>
          <p:nvPr/>
        </p:nvSpPr>
        <p:spPr>
          <a:xfrm>
            <a:off x="3505320" y="3946680"/>
            <a:ext cx="7333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2895"/>
          <p:cNvSpPr/>
          <p:nvPr/>
        </p:nvSpPr>
        <p:spPr>
          <a:xfrm>
            <a:off x="5781600" y="3946680"/>
            <a:ext cx="7336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2896"/>
          <p:cNvSpPr/>
          <p:nvPr/>
        </p:nvSpPr>
        <p:spPr>
          <a:xfrm>
            <a:off x="2657520" y="4432320"/>
            <a:ext cx="7333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2897"/>
          <p:cNvSpPr/>
          <p:nvPr/>
        </p:nvSpPr>
        <p:spPr>
          <a:xfrm>
            <a:off x="4410000" y="5184720"/>
            <a:ext cx="73368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2185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48880" cy="514368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21859"/>
          <p:cNvSpPr/>
          <p:nvPr/>
        </p:nvSpPr>
        <p:spPr>
          <a:xfrm>
            <a:off x="7748640" y="4662360"/>
            <a:ext cx="56844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2083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067960" cy="3476520"/>
          </a:xfrm>
          <a:prstGeom prst="rect">
            <a:avLst/>
          </a:prstGeom>
          <a:ln w="0">
            <a:noFill/>
          </a:ln>
        </p:spPr>
      </p:pic>
      <p:pic>
        <p:nvPicPr>
          <p:cNvPr id="1463" name="图片 120835" descr=""/>
          <p:cNvPicPr/>
          <p:nvPr/>
        </p:nvPicPr>
        <p:blipFill>
          <a:blip r:embed="rId2"/>
          <a:stretch/>
        </p:blipFill>
        <p:spPr>
          <a:xfrm>
            <a:off x="1023840" y="4667400"/>
            <a:ext cx="6010200" cy="40932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0836"/>
          <p:cNvSpPr/>
          <p:nvPr/>
        </p:nvSpPr>
        <p:spPr>
          <a:xfrm>
            <a:off x="7812000" y="2205000"/>
            <a:ext cx="56844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9809" descr=""/>
          <p:cNvPicPr/>
          <p:nvPr/>
        </p:nvPicPr>
        <p:blipFill>
          <a:blip r:embed="rId1"/>
          <a:stretch/>
        </p:blipFill>
        <p:spPr>
          <a:xfrm>
            <a:off x="566640" y="971640"/>
            <a:ext cx="8010720" cy="491472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9810"/>
          <p:cNvSpPr/>
          <p:nvPr/>
        </p:nvSpPr>
        <p:spPr>
          <a:xfrm>
            <a:off x="7740720" y="3006720"/>
            <a:ext cx="56808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8785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39160" cy="294300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8786"/>
          <p:cNvSpPr/>
          <p:nvPr/>
        </p:nvSpPr>
        <p:spPr>
          <a:xfrm>
            <a:off x="7682040" y="4043520"/>
            <a:ext cx="5680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8787"/>
          <p:cNvSpPr/>
          <p:nvPr/>
        </p:nvSpPr>
        <p:spPr>
          <a:xfrm>
            <a:off x="4272120" y="4510080"/>
            <a:ext cx="56808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8788"/>
          <p:cNvSpPr/>
          <p:nvPr/>
        </p:nvSpPr>
        <p:spPr>
          <a:xfrm>
            <a:off x="5538960" y="4529160"/>
            <a:ext cx="83340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7761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10400" cy="539136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7762"/>
          <p:cNvSpPr/>
          <p:nvPr/>
        </p:nvSpPr>
        <p:spPr>
          <a:xfrm>
            <a:off x="3214800" y="1900080"/>
            <a:ext cx="56808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7763"/>
          <p:cNvSpPr/>
          <p:nvPr/>
        </p:nvSpPr>
        <p:spPr>
          <a:xfrm>
            <a:off x="5614920" y="2376360"/>
            <a:ext cx="56844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7764"/>
          <p:cNvSpPr/>
          <p:nvPr/>
        </p:nvSpPr>
        <p:spPr>
          <a:xfrm>
            <a:off x="1233360" y="2881440"/>
            <a:ext cx="56844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7765"/>
          <p:cNvSpPr/>
          <p:nvPr/>
        </p:nvSpPr>
        <p:spPr>
          <a:xfrm>
            <a:off x="3576600" y="3367080"/>
            <a:ext cx="85104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7766"/>
          <p:cNvSpPr/>
          <p:nvPr/>
        </p:nvSpPr>
        <p:spPr>
          <a:xfrm>
            <a:off x="6805440" y="3367080"/>
            <a:ext cx="85104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7767"/>
          <p:cNvSpPr/>
          <p:nvPr/>
        </p:nvSpPr>
        <p:spPr>
          <a:xfrm>
            <a:off x="3071880" y="4367160"/>
            <a:ext cx="85068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7768"/>
          <p:cNvSpPr/>
          <p:nvPr/>
        </p:nvSpPr>
        <p:spPr>
          <a:xfrm>
            <a:off x="1614600" y="5329080"/>
            <a:ext cx="85068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7769"/>
          <p:cNvSpPr/>
          <p:nvPr/>
        </p:nvSpPr>
        <p:spPr>
          <a:xfrm>
            <a:off x="6977160" y="5329080"/>
            <a:ext cx="126684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7770"/>
          <p:cNvSpPr/>
          <p:nvPr/>
        </p:nvSpPr>
        <p:spPr>
          <a:xfrm>
            <a:off x="1290600" y="5843520"/>
            <a:ext cx="126684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2:37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